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21FB8-C9CD-452B-952A-B06EDC57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699F7-6D12-42BF-B93E-5AEBE758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0A033-4A12-42DB-B590-9C8781E8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CCF9B-1E03-42AA-8EBE-A6CC8B1F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F946-003A-4CCB-828E-BAD143FD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6C7E-F4EB-4E5A-84AF-D0E731FB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684B-DD73-4B32-BE23-3667C86D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F12C-AEF0-490E-A930-FBCD3924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3FFE-90A6-45D6-B4A8-73060DFB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53F8-B969-4A1D-A2F8-E11E0B74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AC96-82B4-4DDD-8CB6-3A8B735B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FFE28-1E47-45E2-B6DF-32120EC3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2763-54F7-43F1-BDB0-0C7E77C7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E70B-B4C2-43F6-A503-BF7C8B20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219D-252F-4ED7-A26F-20C1CB5A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7429-39C6-494A-97C8-94F33ACC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3ADF-FDE9-4BFE-B70E-1F17E94D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C7F5E-E127-4309-A665-72D96191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49B46-8ABB-4065-9885-B7446A59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09244-BAF4-4E9E-AA76-C444F411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A5B21-A324-4D20-9531-54C1B1E5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4E656-31CB-479B-B0D0-76C08151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1ED41-E7A4-41E7-A2C2-B57622A2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CE993-72A4-4F78-9EF4-9A609C0A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DC3B-6D65-44D2-B585-D97AEA7E6AA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4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330A-0FA0-455B-B18C-5A179F9569F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60280"/>
            <a:ext cx="38098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The 6</a:t>
            </a:r>
            <a:r>
              <a:rPr b="1" lang="en-GB" sz="33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nternation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Workshop 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nomalies i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Hydrogen /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Deuteriu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Loade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Metals</a:t>
            </a: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Siena 13-16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May 2005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780000" y="0"/>
            <a:ext cx="53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90571"/>
                </a:solidFill>
                <a:latin typeface="Arial"/>
              </a:rPr>
              <a:t>ISCMNS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SCMNS members get a €25 discou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count also at ICCF-1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mbership still only costs €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re are over 150 ISCMNS members from 20 different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mbers (only) may purchase workshop materials on CD-ROM, DVD or USB Memory 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ease ask if you do not yet have a membership certific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790571"/>
                </a:solidFill>
                <a:latin typeface="Arial"/>
              </a:rPr>
              <a:t>ISCMNS </a:t>
            </a:r>
            <a:br>
              <a:rPr sz="4000"/>
            </a:br>
            <a:r>
              <a:rPr b="1" lang="en-GB" sz="4000" spc="-1" strike="noStrike">
                <a:solidFill>
                  <a:srgbClr val="790571"/>
                </a:solidFill>
                <a:latin typeface="Arial"/>
              </a:rPr>
              <a:t>Membership </a:t>
            </a:r>
            <a:br>
              <a:rPr sz="4000"/>
            </a:br>
            <a:r>
              <a:rPr b="1" lang="en-GB" sz="4000" spc="-1" strike="noStrike">
                <a:solidFill>
                  <a:srgbClr val="790571"/>
                </a:solidFill>
                <a:latin typeface="Arial"/>
              </a:rPr>
              <a:t>Certifi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11680" y="0"/>
          <a:ext cx="5002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1680" y="0"/>
                    <a:ext cx="5002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90571"/>
                </a:solidFill>
                <a:latin typeface="Arial"/>
              </a:rPr>
              <a:t>Francesco Premu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f Francesco Premuda  (Bologna University) passed away last Nov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90571"/>
                </a:solidFill>
                <a:latin typeface="Arial"/>
              </a:rPr>
              <a:t>Workshop Pub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a1102"/>
                </a:solidFill>
                <a:latin typeface="Arial"/>
              </a:rPr>
              <a:t>All material submitted to this workshop may be published after 1</a:t>
            </a:r>
            <a:r>
              <a:rPr b="1" lang="en-GB" sz="2800" spc="-1" strike="noStrike" baseline="30000">
                <a:solidFill>
                  <a:srgbClr val="da1102"/>
                </a:solidFill>
                <a:latin typeface="Arial"/>
              </a:rPr>
              <a:t>st</a:t>
            </a:r>
            <a:r>
              <a:rPr b="1" lang="en-GB" sz="2800" spc="-1" strike="noStrike">
                <a:solidFill>
                  <a:srgbClr val="da1102"/>
                </a:solidFill>
                <a:latin typeface="Arial"/>
              </a:rPr>
              <a:t> June 2005 unless withdrawn or amme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blication may be electronic or pri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ease contact reception to order a copy in your favourite forma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ribute your digital photos to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90571"/>
                </a:solidFill>
                <a:latin typeface="Arial"/>
              </a:rPr>
              <a:t>New USB Memory Keys on sa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l these USB keys work with Windows XP without drivers.  Boo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56 Mbyte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€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12 Mbyte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€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D-ROM/DV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€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wn medium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€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90571"/>
                </a:solidFill>
                <a:latin typeface="Arial"/>
              </a:rPr>
              <a:t>Spon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ena University - Facolta' di Scienze Matematiche, Fisiche, e Natura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SC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um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codep S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2FUSION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90571"/>
                </a:solidFill>
                <a:latin typeface="Arial"/>
              </a:rPr>
              <a:t>Ac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ounts for this workshop will be published on the ISCMNS web-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SCMNS statutory accounts for the period 2 June 2004 – 30 June 2005 will be be published and placed on the public record (in England) as well as the web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90571"/>
                </a:solidFill>
                <a:latin typeface="Arial"/>
              </a:rPr>
              <a:t>Getting Help at Pontign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k at the Certosa re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k a host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aly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r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lisabe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90571"/>
                </a:solidFill>
                <a:latin typeface="Arial"/>
              </a:rPr>
              <a:t>Feedback on Workshop Orga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y comments, suggestions, complai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eak up privately or publicly at the closing discussion on  Mon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r leave an anonymous message at rece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90571"/>
                </a:solidFill>
                <a:latin typeface="Arial"/>
              </a:rPr>
              <a:t>Welcome!   What’s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ternational Workshop (not A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ena – a beautiful medioeval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w sponso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ound table discussion this Friday ev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cursion on Saturday aftern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ternet and PC acces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90571"/>
                </a:solidFill>
                <a:latin typeface="Arial"/>
              </a:rPr>
              <a:t>No Medals at this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27520" y="1700280"/>
            <a:ext cx="38653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90571"/>
                </a:solidFill>
                <a:latin typeface="Arial"/>
              </a:rPr>
              <a:t>Conference F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75 for 3 days including room and me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50 for ISCMNS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0 for non residents (includes me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orks out even cheaper than Asti workshop 2004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a1102"/>
                </a:solidFill>
                <a:latin typeface="Arial"/>
              </a:rPr>
              <a:t>No Smoking in buildings open to the public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If you need to smoke, please do so out of doo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It’s not just a courtesy, it’s now the law in Ita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90571"/>
                </a:solidFill>
                <a:latin typeface="Arial"/>
              </a:rPr>
              <a:t>M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ull conference fee includes breakfast,lunch and dinner starting lunch today (Friday 1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als are served in the Sala di Pranzo in the main clo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Gala dinner on Saturday will be served in the Sala Camin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ine is available with all m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ed non-residents may have lunch and di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ease inform reception of any special dietary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 punctu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90571"/>
                </a:solidFill>
                <a:latin typeface="Arial"/>
              </a:rPr>
              <a:t>Lunch on Mon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Unless you are booked at the Certosa on Monday night you are not entitled to lunch or dinner on Monda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en-GB" sz="3400" spc="-1" strike="noStrike">
                <a:solidFill>
                  <a:srgbClr val="da1102"/>
                </a:solidFill>
                <a:latin typeface="Arial"/>
              </a:rPr>
              <a:t>An ad-hoc excursion to San Gimignano (25 minutes by car)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a1102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da1102"/>
                </a:solidFill>
                <a:latin typeface="Arial"/>
              </a:rPr>
              <a:t>(Please express your interest at des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90571"/>
                </a:solidFill>
                <a:latin typeface="Arial"/>
              </a:rPr>
              <a:t>Outline Program </a:t>
            </a:r>
            <a:br>
              <a:rPr sz="4000"/>
            </a:br>
            <a:r>
              <a:rPr b="1" lang="en-GB" sz="4000" spc="-1" strike="noStrike">
                <a:solidFill>
                  <a:srgbClr val="790571"/>
                </a:solidFill>
                <a:latin typeface="Arial"/>
              </a:rPr>
              <a:t>Friday 13</a:t>
            </a:r>
            <a:r>
              <a:rPr b="1" lang="en-GB" sz="4000" spc="-1" strike="noStrike" baseline="30000">
                <a:solidFill>
                  <a:srgbClr val="790571"/>
                </a:solidFill>
                <a:latin typeface="Arial"/>
              </a:rPr>
              <a:t>th</a:t>
            </a:r>
            <a:r>
              <a:rPr b="1" lang="en-GB" sz="4000" spc="-1" strike="noStrike">
                <a:solidFill>
                  <a:srgbClr val="790571"/>
                </a:solidFill>
                <a:latin typeface="Arial"/>
              </a:rPr>
              <a:t> M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5:00 Francesco Piantelli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 William Collis    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Organizers' Addres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5:30 Francesco Celani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taly / Japa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5:55 Akito Takahashi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Brief Review of Iwamura's Transmutation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6:10 Camillo Franch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66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Prospects for Radio-active Waste Remedi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6:50 Akito Takahashi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TSC-Induced nuclear reactions and cold trans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7:30 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8:00 Registration Villa Ent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8:30 Round Table Discussion in 'Sala Veranda'</a:t>
            </a: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Prospects for Radio-active Waste Re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0:00 Dinner  Sala da Pran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90571"/>
                </a:solidFill>
                <a:latin typeface="Arial"/>
              </a:rPr>
              <a:t>Outline Program </a:t>
            </a:r>
            <a:br>
              <a:rPr sz="4000"/>
            </a:br>
            <a:r>
              <a:rPr b="1" lang="en-GB" sz="4000" spc="-1" strike="noStrike">
                <a:solidFill>
                  <a:srgbClr val="790571"/>
                </a:solidFill>
                <a:latin typeface="Arial"/>
              </a:rPr>
              <a:t>Saturday 14</a:t>
            </a:r>
            <a:r>
              <a:rPr b="1" lang="en-GB" sz="4000" spc="-1" strike="noStrike" baseline="30000">
                <a:solidFill>
                  <a:srgbClr val="790571"/>
                </a:solidFill>
                <a:latin typeface="Arial"/>
              </a:rPr>
              <a:t>th</a:t>
            </a:r>
            <a:r>
              <a:rPr b="1" lang="en-GB" sz="4000" spc="-1" strike="noStrike">
                <a:solidFill>
                  <a:srgbClr val="790571"/>
                </a:solidFill>
                <a:latin typeface="Arial"/>
              </a:rPr>
              <a:t> M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8:00     Breakfast (Sala da Pranz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9:00     Oral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1:00     Coffee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3:00     Lunch (Sala da Pran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4:30     Coach leaves for excursion to Si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8:3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parture from Piazza Grams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:00     Gala Dinner (Sala Caminetto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</cp:lastModifiedBy>
  <dcterms:modified xsi:type="dcterms:W3CDTF">2005-05-13T12:21:22Z</dcterms:modified>
  <cp:revision>20</cp:revision>
  <dc:subject/>
  <dc:title>PowerPoint Presentation</dc:title>
</cp:coreProperties>
</file>